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6B2-B146-4C64-8F3B-E939551B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E25-D408-4EED-8AE8-FC6214B9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89D-6CA4-49EF-86C8-11CD7626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52B-5E3A-4334-8B04-CC725CFF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D6FC-0CCD-438A-B994-46DCDF23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ED85-1D67-42C7-839B-B742E5F0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BE3B-5F6C-40A4-B0D5-F98928E0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87C9-A170-449C-BE16-618D0538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CE14-B6E6-4137-922D-58748C44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FB24-1958-4B7C-AB19-126BEA75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0605-352D-44C3-9527-450F93A3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2E0-D42E-43F6-8915-1576B278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B316-A133-491E-A08B-2E8434A4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FEA5-F846-486F-9E1F-3CFBECC0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3A45-C7F8-4C74-95DF-D9C66FA6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4FB4-4F3F-4D13-A035-0E9B51E3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4B47-EC86-49CE-8DAE-35B7F251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573B3-3518-4B8A-9986-823026DC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F13C-79C5-4A59-AC4A-39D30A1F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6E59-C5F7-48E4-990D-4327D0C2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ECC3-F2D8-428E-A0FF-0A86CDB9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02A6-E371-4DB6-916B-EC94428C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AA0E-A1B3-4F97-BD3D-A56AC7A5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0E72-138C-4014-9C03-C8C7A00C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0CAEB-4C78-42EB-9707-EEC404D8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F545-C816-42AF-943A-74E28215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1C39-4132-4814-A68A-7904F1B4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52F9-7F27-4F1F-90D3-2C86B692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4629-C087-4320-BE38-C3F266E6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FDC3-E986-44F6-895A-29198CD4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012D8-B073-480D-8F16-0E72E2A3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4C83-61B2-4FEA-A6B4-FC831065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578B1-E054-46F2-A719-327C9F30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EC2-008C-4CE4-8E6B-292C1BC9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5CCDA-710E-40D9-9BB7-8CE707B4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358A2-2578-4AAF-BA1B-61C5280B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6714-0442-4F0A-B5AB-F64439B5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DBF9A-C70B-476E-9AB0-81C9E606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AFBE-A821-4C64-B9CC-53E1D9EC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5502-5479-4716-AD84-657B9FFC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A7438-FE0F-4046-B865-F67399E3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C692-37D3-44F2-8DD3-6B9E9907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82C2-0BA4-4287-BE6F-F55CC355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949CA-A75E-405E-A61B-F2741E0F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589-9C1C-4231-A805-153832C2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17288-3A26-4751-9DDC-792F20B9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FF735-0B9D-41AE-A76A-04C4D79D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4248E-F39E-4D2F-B856-404BDC09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5D47-7707-4148-8DC9-637DD94B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ABED9-7DF2-4A05-B3D7-F72E705A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12C37-851C-49BD-91A7-3263E00B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483A4-D0F1-46E0-8DB6-1B9C07BA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EA01D-6821-4D2C-870E-D0FF7FC6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28047-569D-4EC8-97A4-BA750CE8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6D09-0B78-4488-B54A-FE5F818A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BDC-00BA-456A-BEDC-44CEAC19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433CF-03B3-4EE4-80F3-4B4C0A54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D6F38-C902-4627-BE45-51011AD1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9DDE-9F31-4A19-A814-1CE9A135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F40DA-12C6-4655-9FF5-EFC66F56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738F0-99FB-4610-8B2F-517EE896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40450-3C27-4410-BB03-F64CB145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5B382-C722-452A-B4CF-A4D3D369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9A42-5B99-4533-B711-1FE5993B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5C0A-1243-40AE-AD84-2EE13A8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75FA5-1D8A-4E02-830B-2357C0E9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73B-E0BC-4D2A-ABB4-DB17FF48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020E-A84A-4705-8542-273D758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942AA-E78E-4E80-AA5B-02C3E7CD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E0F44-1E56-4E27-9C6C-4E54C8C4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4A7DB-1B6D-455F-9D2A-11390963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23E9A-5F61-4FBD-80D6-6E844EF0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981A8-A04D-4C4F-A54B-451B04E4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D6ACA-4747-4FC0-8766-9A1F53D1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5BBA2-DA65-4131-8415-458FE073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4C802-4538-45C2-A90B-8604B4CD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6291B-EB64-4D2B-87A7-2DDE406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51C-6D99-462C-9FD2-7B5C32E5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0A070-FD23-4984-8A72-ECCE3F1C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6315B-BF7F-4EC4-9CCB-3E753950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D76E7-96AF-45BF-8F7C-45D59339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B73B9-7CA6-4C79-9D5A-813D0F01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1FB3D-D900-443A-8BCC-F762A56C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BFD79-7A37-4EB3-97B1-4C4963B4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93138-83DD-4ECF-AEBC-B3C01BE6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6DEDB-536D-4BD1-A25F-42FD2E67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59FFF-E913-4E4E-BB1C-762CB867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97466-D119-479D-8CA7-836C17A4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498-16DC-4F5C-A3F4-27BB9E11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B134D-CBDE-41CA-A720-4DE24928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44A2B-2911-4BBB-B95D-01B7AE9F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EB1D9-2191-41EE-96E2-5B27D0BC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6DA0B-B886-4116-B524-69E7A613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CFF25-F05E-4254-A059-4A4BA92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4EBCA-D5FC-4767-A2D1-B2E82FEE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1292C-8361-4399-9132-6698C37B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9B5A-5088-4FA8-BCDD-2925928E162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A879-F595-4F4E-ADD0-8D34DC7880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3A0E-18C4-4BEC-987A-81331F1E039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2F1F-E82F-49FB-91E8-8B1EDAE2E7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25C6-76EF-4DC2-AA4B-3646E11B101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B0BA-440F-41A2-A19F-F160DE8B17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3F92-3D38-4713-BA12-B90B8288C6F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0192-AA81-45B4-A38A-1EBBB6810B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8F80-A33C-4EA6-A6C3-E68A157B4D5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DE8A-5239-4D10-B83F-C8F88D36AD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792-B9F0-4DA8-A6D9-8D4FE4AA5D6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3EAE-1D9D-478B-8E8C-8E501B9260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4ABE-F44C-4F57-BBA5-6BD9D7E3379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711F-20EF-465A-9AC9-50EC9034B7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6C08-56D8-4645-A083-201857F6D75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1A2B-9AEB-4361-A908-C9090179D2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valuare/Lista%20verificare_prezentare_GN.doc" TargetMode="External"/><Relationship Id="rId2" Type="http://schemas.openxmlformats.org/officeDocument/2006/relationships/hyperlink" Target="file:///../Evaluare/Lista%20verificare_prezentare_GN.doc" TargetMode="External"/><Relationship Id="rId3" Type="http://schemas.openxmlformats.org/officeDocument/2006/relationships/hyperlink" Target="file:///../Evaluare/Lista%20verificare_prezentare_GN.doc" TargetMode="External"/><Relationship Id="rId4" Type="http://schemas.openxmlformats.org/officeDocument/2006/relationships/hyperlink" Target="file:///../Evaluare/Lista%20verificare_prezentare_GN.doc" TargetMode="External"/><Relationship Id="rId5" Type="http://schemas.openxmlformats.org/officeDocument/2006/relationships/hyperlink" Target="file:///../Evaluare/Lisata%20verificare_%20publicatie_GN.doc" TargetMode="External"/><Relationship Id="rId6" Type="http://schemas.openxmlformats.org/officeDocument/2006/relationships/hyperlink" Target="file:///../Evaluare/Lisata%20verificare_%20publicatie_GN.doc" TargetMode="External"/><Relationship Id="rId7" Type="http://schemas.openxmlformats.org/officeDocument/2006/relationships/hyperlink" Target="file:///../Evaluare/Lisata%20verificare_%20publicatie_GN.doc" TargetMode="External"/><Relationship Id="rId8" Type="http://schemas.openxmlformats.org/officeDocument/2006/relationships/hyperlink" Target="file:///../Evaluare/Lisata%20verificare_%20publicatie_GN.doc" TargetMode="External"/><Relationship Id="rId9" Type="http://schemas.openxmlformats.org/officeDocument/2006/relationships/hyperlink" Target="file:///../Evaluare/Lisata%20verificare_%20publicatie_GN.doc" TargetMode="External"/><Relationship Id="rId10" Type="http://schemas.openxmlformats.org/officeDocument/2006/relationships/hyperlink" Target="file:///../Evaluare/Lisata%20verificare_%20publicatie_GN.doc" TargetMode="External"/><Relationship Id="rId11" Type="http://schemas.openxmlformats.org/officeDocument/2006/relationships/hyperlink" Target="file:///../Evaluare/Lista%20verificare_wiki_GN.doc" TargetMode="External"/><Relationship Id="rId12" Type="http://schemas.openxmlformats.org/officeDocument/2006/relationships/hyperlink" Target="file:///../Evaluare/Jurnal%20de%20reflectie_GN.doc" TargetMode="External"/><Relationship Id="rId13" Type="http://schemas.openxmlformats.org/officeDocument/2006/relationships/hyperlink" Target="file:///../Evaluare/Grila%20de%20scorare_invest&amp;prezentare_interevaluare_GN.doc" TargetMode="External"/><Relationship Id="rId14" Type="http://schemas.openxmlformats.org/officeDocument/2006/relationships/hyperlink" Target="file:///../Evaluare/Descriptori_prezentare_GN.htm" TargetMode="External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Produse_model" TargetMode="External"/><Relationship Id="rId2" Type="http://schemas.openxmlformats.org/officeDocument/2006/relationships/hyperlink" Target="file:///../Produse_model/Prezentare%20Atom_ElevGN.pps" TargetMode="External"/><Relationship Id="rId3" Type="http://schemas.openxmlformats.org/officeDocument/2006/relationships/hyperlink" Target="http://organizare.wik.is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isa%20de%20lucru_Stari%20de%20agregare_GN.doc" TargetMode="External"/><Relationship Id="rId2" Type="http://schemas.openxmlformats.org/officeDocument/2006/relationships/hyperlink" Target="file:///../Produse_model/Brosura_Elev_GN.doc" TargetMode="External"/><Relationship Id="rId3" Type="http://schemas.openxmlformats.org/officeDocument/2006/relationships/hyperlink" Target="http://dwb.unl.edu/chemistry/dochem/DoChem080.html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C:\Documents and Settings\Mom\Desktop\World Wide03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6BA6-499F-4E93-94DA-2EE970CAE5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3" name="World Wide2.avi" descr=""/>
          <p:cNvPicPr/>
          <p:nvPr/>
        </p:nvPicPr>
        <p:blipFill>
          <a:blip r:embed="rId2"/>
          <a:stretch/>
        </p:blipFill>
        <p:spPr>
          <a:xfrm>
            <a:off x="2819520" y="2374920"/>
            <a:ext cx="3581280" cy="26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00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Elementele sunt la fel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514600" y="12949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 face predicţii asupra proprietăţilor cuprulu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realiza o comparaţie Na-Fe-Cu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*Veţi</a:t>
            </a:r>
            <a:r>
              <a:rPr b="0" i="1" lang="en-US" sz="1600" spc="-1" strike="noStrike">
                <a:solidFill>
                  <a:srgbClr val="ffffff"/>
                </a:solidFill>
                <a:latin typeface="Lucida Sans Unicode"/>
              </a:rPr>
              <a:t> investig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i="1" lang="en-US" sz="1600" spc="-1" strike="noStrike">
                <a:solidFill>
                  <a:srgbClr val="ffffff"/>
                </a:solidFill>
                <a:latin typeface="Lucida Sans Unicode"/>
              </a:rPr>
              <a:t> comportarea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 cuprului în vederea descoperirii unor proprietăţi comune cu sodiul, dar şi a unor proprietăţi diferit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afla despre reactivitatea metalelor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Realizaţi  o prezentare pe flipchart  a activităţii independente referitoare la proprietăţi predictibile ale Cu, precum şi comparaţia elementelor Na-Fe-Cu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ostaţi afişele voastre, realizaţi turul galeriei şi faceţi completăr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rificaţi  veridicitatea concluziilor voastre pe baza tabelului reactivităţi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*Folosiţi informaţia de pe site-ul: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Lucida Sans Unicode"/>
              </a:rPr>
              <a:t>*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Lucida Sans Unicode"/>
              </a:rPr>
              <a:t>http://dwb.unl.edu/chemistry/dochem/DoChem054.htm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pentru a vă desfăşura activitatea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Elementele sunt la fel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 investiga proprietăţile clorului în vederea descoperirii caracterului nemetalic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afla despre reactivitatea diferită a halogenilor realizând o comparaţie Cl-Br-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discuta legătura covalentă în cazul moleculelor de clor şi acid clorhidric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prez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nt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rezultatele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compar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ţiei 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Na-Cl/ *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Na –Cu ,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realizată pe baza investigaţiei voastre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într-o publicaţi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/ prezentare/ wiki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olosiţi fişa de lucru pentru desfăşurarea activităţii voastr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Lucraţi la prezentare/ publicaţie/ wik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ompleta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lista de verific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şi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grila de scorare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pentru produsul vostru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Berlin Sans FB Demi"/>
              </a:rPr>
              <a:t>C</a:t>
            </a:r>
            <a:r>
              <a:rPr b="0" i="1" lang="en-US" sz="1600" spc="-1" strike="noStrike">
                <a:solidFill>
                  <a:srgbClr val="ffffff"/>
                </a:solidFill>
                <a:latin typeface="Berlin Sans FB Demi"/>
              </a:rPr>
              <a:t>um sunt organizate elementele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 discuta despre structura învelişului electronic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afla despre regulile completării cu electroni a straturilor şi substraturilor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scrie configuraţii electronice pentru atomii unor element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explora structuri electronice/ 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*configuraţii electronice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le atomilor unui set de elemente pentru a descoperi aranjarea elementelor în Tabelul periodic, în grupe şi perioade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olosiţi fişa de lucru pentru desfăşurarea activităţii voastr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Urmăriţi prezentarea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plica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ţi 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grila de scorare_investigaţie şi prezent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entru această prezentare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Berlin Sans FB Demi"/>
              </a:rPr>
              <a:t>C</a:t>
            </a:r>
            <a:r>
              <a:rPr b="0" i="1" lang="en-US" sz="1600" spc="-1" strike="noStrike">
                <a:solidFill>
                  <a:srgbClr val="ffffff"/>
                </a:solidFill>
                <a:latin typeface="Berlin Sans FB Demi"/>
              </a:rPr>
              <a:t>um sunt organizate elementele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 descoperi cum sunt aranjate elementele în Tabelul periodic prin explorarea proprietăţilor unui set de element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*Veţi face predicţii asupra proprietăţilor unor elemente “lipsă”  din Tabelul periodic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Veţi face predicţii asupra configuraţiilor unor elemente “lipsă” din tabel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olosiţi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fişa de lucru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entru desfăşurarea activităţii voastre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Berlin Sans FB Demi"/>
              </a:rPr>
              <a:t>C</a:t>
            </a:r>
            <a:r>
              <a:rPr b="0" i="1" lang="en-US" sz="1600" spc="-1" strike="noStrike">
                <a:solidFill>
                  <a:srgbClr val="ffffff"/>
                </a:solidFill>
                <a:latin typeface="Berlin Sans FB Demi"/>
              </a:rPr>
              <a:t>um sunt organizate elementele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ă veţi  documenta pe tema descoperirii unor metale şi/ sau pe tema “tabelelor periodice” de-a lungul timpulu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prez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nt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rezultatele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documentări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 într-o publicaţi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/ prezentare/ wiki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Urmăriţi prezentarea site-ului creat de colegi: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Lucida Sans Unicode"/>
              </a:rPr>
              <a:t>organizare.wik.is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plica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ţi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grila de scorare_investigaţie şi prezent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entru </a:t>
            </a:r>
            <a:br>
              <a:rPr sz="1600"/>
            </a:b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site-ul analizat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Lucraţi la prezentare/ publicaţie/ wik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ompleta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lista de verificare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grila de scor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pentru produsul vostru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80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Berlin Sans FB Demi"/>
              </a:rPr>
              <a:t>C</a:t>
            </a:r>
            <a:r>
              <a:rPr b="0" i="1" lang="en-US" sz="1600" spc="-1" strike="noStrike">
                <a:solidFill>
                  <a:srgbClr val="ffffff"/>
                </a:solidFill>
                <a:latin typeface="Berlin Sans FB Demi"/>
              </a:rPr>
              <a:t>um sunt organizate elementele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realiza o 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prez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nt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re 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unuia din produsele elaborat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în timpul  proiectulu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susţine oral prezentarea voastră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Lucraţi la prezentar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olos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ţi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descrierea criteriilor din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descriptori prezentare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atunci când elaboraţi prezentarea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Aplicaţi, individual, grila de scorare pentru toate prezentările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25360" y="73080"/>
            <a:ext cx="84679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Documents and Settings\Mom\Desktop\World Wide Pic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242200" cy="45356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F826-6137-486D-B9FB-40B1A1CF95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2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59400"/>
          </a:xfrm>
          <a:prstGeom prst="rect">
            <a:avLst/>
          </a:prstGeom>
          <a:ln w="0">
            <a:noFill/>
          </a:ln>
        </p:spPr>
      </p:pic>
      <p:sp>
        <p:nvSpPr>
          <p:cNvPr id="37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38F5-B605-4E7C-855F-8AB2F5F7ED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Veţi cre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rezentare/ publicaţie/ site wiki pentru prima întrebare a unităţii: “Care este nivelul de organizare specific solidelor, lichidelor sau gazelor?”, 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Termen: la sfârşitul lecţiei 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rezentare/ publicaţie/ site wiki pentru a doua întrebare a unităţii: “Elementele sunt la fel?“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     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Termen: la sfârşitul lecţiei 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rezentare/ publicaţie/ site wiki pentru a treia întrebare a unităţii: “Cum sunt organizate elementele?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       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Termen: la sfârşitul lecţiei 1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Fiecare grup va crea: o prezentare, o publicaţie şi un site, fiecare dintre produse va răspunde la una din cele trei întrebări ale unităţii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6840" y="1481040"/>
            <a:ext cx="838188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rezent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uia din produse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proiectului, care va fi susţinută de fiecare grup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Termen: în cadrul lecţiei 1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a1f28"/>
                </a:solidFill>
                <a:latin typeface="Arial Rounded MT Bold"/>
              </a:rPr>
              <a:t>Folosiţi toate instrumentele de control furnizate pe parcursul derulării proiectului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l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ist</a:t>
            </a: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ă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4"/>
              </a:rPr>
              <a:t> verificare prezentare</a:t>
            </a:r>
            <a:r>
              <a:rPr b="0" lang="en-US" sz="1800" spc="-1" strike="noStrike">
                <a:solidFill>
                  <a:srgbClr val="da1f2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l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6"/>
              </a:rPr>
              <a:t>ist</a:t>
            </a: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7"/>
              </a:rPr>
              <a:t>ă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8"/>
              </a:rPr>
              <a:t> verificare publica</a:t>
            </a: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9"/>
              </a:rPr>
              <a:t>ţ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10"/>
              </a:rPr>
              <a:t>ie</a:t>
            </a:r>
            <a:r>
              <a:rPr b="0" lang="en-US" sz="1600" spc="-1" strike="noStrike">
                <a:solidFill>
                  <a:srgbClr val="da1f28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11"/>
              </a:rPr>
              <a:t>listă verificare site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12"/>
              </a:rPr>
              <a:t>jurnal de reflecţie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13"/>
              </a:rPr>
              <a:t>grilă de scorare investigaţie şi prezentare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f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ul fie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 ore v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a jurnalul de refle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Timp de lucru: 5 minu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a1f28"/>
                </a:solidFill>
                <a:latin typeface="Arial Rounded MT Bold"/>
              </a:rPr>
              <a:t>Folosiţi pentru alcătuirea prezentării fina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ff8119"/>
                </a:solidFill>
                <a:uFillTx/>
                <a:latin typeface="Arial"/>
                <a:hlinkClick r:id="rId14"/>
              </a:rPr>
              <a:t>descriptori evaluare _prezentare</a:t>
            </a:r>
            <a:r>
              <a:rPr b="0" lang="ro-RO" sz="1800" spc="-1" strike="noStrike">
                <a:solidFill>
                  <a:srgbClr val="da1f2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Portofoliul personal al fiecăruia dintre voi va cuprin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O publicaţie, o prezentare şi un site wiki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Listele de verificare completate pentru fiecare produs prezentat de profesor şi pentru fiecare produs elaborat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rilele de scorare _investigaţie şi prezentare, completate pentru fiecare produs prezentat de profesor, pentru propriile produse şi pentru prezentările finale ale celorlate grupe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escriptori_prezentare, completată în cadrul grupului, pentru propriul produs final elaborat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Jurnalul de reflecţie, completat pentru fiecare lecţi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6AEC-62C6-4F32-952F-DF0D320834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ţ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urm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i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ş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ali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e ba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lis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r de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verificare primite, trei produse ale unor colegi de-ai voştri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 </a:t>
            </a:r>
            <a:r>
              <a:rPr b="0" lang="ro-RO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broşură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care aduce un răspuns la prima întrebare a unităţii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 </a:t>
            </a:r>
            <a:r>
              <a:rPr b="0" lang="ro-RO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prezentare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care aduce un răspuns la a doua întrebare a unităţii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un site wiki: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organizare.wik.is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 care aduce un răspuns la ce-a de-a treia întrebare a unităţi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2502-BED2-48C2-B37E-9BD587453D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Title 3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761760" y="1752480"/>
            <a:ext cx="19047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ro-RO" sz="2100" spc="-1" strike="noStrike">
                <a:solidFill>
                  <a:srgbClr val="ffffff"/>
                </a:solidFill>
                <a:latin typeface="Berlin Sans FB Demi"/>
              </a:rPr>
              <a:t>Care este nivelul de organizare specific solidelor, lichidelor şi gazelor</a:t>
            </a:r>
            <a:r>
              <a:rPr b="0" lang="ro-RO" sz="1900" spc="-1" strike="noStrike">
                <a:solidFill>
                  <a:srgbClr val="ffffff"/>
                </a:solidFill>
                <a:latin typeface="Berlin Sans FB Demi"/>
              </a:rPr>
              <a:t>?</a:t>
            </a:r>
            <a:endParaRPr b="0" lang="en-US" sz="19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investig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comportarea solidelor/ lichidelor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/ 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gazelor în vederea conceptualizării caracterului particular al materiei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prez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nt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rezultatele investigaţiei  într-o publicaţi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/ prezentare/ wiki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olosiţi </a:t>
            </a:r>
            <a:r>
              <a:rPr b="0" lang="ro-RO" sz="16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fişa de lucru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entru desfăşurarea activităţii voastre; 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Urmăriţi prezentarea </a:t>
            </a:r>
            <a:r>
              <a:rPr b="0" lang="ro-RO" sz="16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broşurii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şi pe baza acesteia sau folosind informaţiile de pe site-urile: 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dwb.unl.edu/chemistry/dochem/DoChem080.htm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Lucida Sans Unicode"/>
              </a:rPr>
              <a:t>http://dwb.unl.edu/Chemistry/MicroScale/MScale13.html</a:t>
            </a:r>
            <a:r>
              <a:rPr b="0" i="1" lang="en-US" sz="1600" spc="-1" strike="noStrike">
                <a:solidFill>
                  <a:srgbClr val="ffffff"/>
                </a:solidFill>
                <a:latin typeface="Lucida Sans Unicode"/>
              </a:rPr>
              <a:t>şi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*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Lucida Sans Unicode"/>
              </a:rPr>
              <a:t>http://dwb.unl.edu/chemistry/dochem/DoChem042.htm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desfăşuraţi activitatea voastră în continuare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plica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ţi  </a:t>
            </a:r>
            <a:r>
              <a:rPr b="0" i="1" lang="ro-RO" sz="1600" spc="-1" strike="noStrike">
                <a:solidFill>
                  <a:srgbClr val="ffffff"/>
                </a:solidFill>
                <a:latin typeface="Lucida Sans Unicode"/>
              </a:rPr>
              <a:t>grila de scorare_investigaţie şi prezentare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pentru broşură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Lucraţi la prezentare/ publicaţie/ wik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ompleta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lista de verificare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0" i="1" lang="ro-RO" sz="1600" spc="-1" strike="noStrike">
                <a:solidFill>
                  <a:srgbClr val="ffffff"/>
                </a:solidFill>
                <a:latin typeface="Arial"/>
              </a:rPr>
              <a:t>grila de scor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, pentru produsul propriu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762120" y="1676160"/>
            <a:ext cx="1828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rlin Sans FB Demi"/>
              </a:rPr>
              <a:t>Elementele sunt la fel?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14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Obiectiv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discuta modalitatea de studiu a unui element chimic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investig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proprietăţile sodiului în vederea descoperirii caracterului metalic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</a:t>
            </a: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ace predicţii asupra proprietăţilor fierului</a:t>
            </a: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explora modul de formare a clorurii de sodiu;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Veţi discuta legătura ionică din NaCl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rcini de lucru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Lucida Sans Unicode"/>
              </a:rPr>
              <a:t>Folosiţi  fişa de lucru pentru desfăşurarea activităţii voast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19:32:12Z</dcterms:created>
  <dc:creator>Mom</dc:creator>
  <dc:description/>
  <dc:language>en-US</dc:language>
  <cp:lastModifiedBy>Mom</cp:lastModifiedBy>
  <dcterms:modified xsi:type="dcterms:W3CDTF">2007-08-18T08:33:00Z</dcterms:modified>
  <cp:revision>206</cp:revision>
  <dc:subject/>
  <dc:title>Slide 1</dc:title>
</cp:coreProperties>
</file>